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1867-1EE5-468B-B099-0E8E1645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E58-32C4-4E4C-97BD-A07B0815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C601A-DC72-4091-A256-70461E37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F4BEF-3021-45A6-94F0-29705579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569B4-DCA9-408E-9646-18E165F4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C6126-989E-4C94-9284-8C21CAE4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45B0B-05A8-4B18-B33C-85374DB9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3361B-4DC3-4EB7-8BD8-FBAFCD5A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E0A1A-3FD9-4D3B-A2E0-A0B7708D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7B49F-4C88-4A95-AE05-E3DECA16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47375-1DA4-47B6-A709-0EDBADEB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277D6-42D2-46D4-AE6E-1C22771E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79F-70E8-4AF0-B888-EDFA3FBF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96D70-3BF4-4833-B8BA-189B8849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9F77E-789F-4AB1-BDE0-09584E89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4F439-2C6D-4CA0-8B25-4D267F30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6F0A4-DEC2-4167-879C-BED7E925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4FEA9-4557-4CA8-8947-105E4433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AA7E5-1D2A-45EC-B0AD-D97C56AF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5E218-57E0-4D0E-B8E2-B34FCFCA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9DA80-9ECB-4489-8F44-FB4CD867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A2988-1DCB-40E0-823D-94E4939E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61A57-7DCA-4522-832F-1CB01CCE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EC4-D587-4F18-89F2-A305D96C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ABD47-D7CD-45E2-A7A7-6614F719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F1029-892F-4D02-A9BD-CE5EC946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012A2-97A3-46AE-A193-232F8598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7F60A-8755-4EDB-A608-E7EAA9F0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071E2-B68C-4EDF-A37B-F5CD63AE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FE5D7-ADDF-4908-8E00-3370E0A5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E33F1-7D0E-4163-BA9E-4AF31C9C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1F570-22A5-4B20-B724-DA5E241F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07CA4-DA08-4400-9DF1-84DCA3FD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4A808-8A83-44FA-ADA3-EBD6E3DF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F153-FA6A-4351-9872-CCF03C40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81DCB-F0E7-4F81-A084-06C4352B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78C8C-5085-4BD3-B10A-C1FF9145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AFB94-D215-4144-B651-D0AC8697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1D2BA-239E-43AC-970A-F3804C8F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ACEA7-CB50-44D1-9458-619E6087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54CAA-8863-4227-BE22-A0B221D9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9A9CC-B45F-46E9-B606-6DA456EB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3C608-C56C-488C-A3E1-206DD51E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09D7C-C055-4F3A-ACDB-219C984E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CF373-F453-4582-AA4F-1F97EC7F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8DD1-BF40-4619-B94B-81756A01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1594F-E2CB-41CD-A60A-3CCE015E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C4282-7A18-4737-ABC0-4A40C301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D0711-4D3F-4F45-9EAC-88CC6A3D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FD76F-1D19-4C0F-B35D-FD4C1235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DE641-41E7-4769-9336-9FF02FC1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0474-13DB-4E62-9231-DB88FE97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8ADD-EC7E-4692-A05A-69AB8934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A9FE-6DB3-48E6-ADFD-9EC93039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BD1D-F461-42A0-95B1-7ABC5488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7A88-53A7-4DC0-BE62-5BFE24B9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548-343B-481E-8045-4CC939EF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45EE-341F-47B1-BB51-5795CE47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F042-9989-4018-890F-F776036B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8D73-2972-4615-9D76-9A4F879A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B9F8-E07F-4D97-BBFF-9EF9704B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4BAB-F90F-419E-AF33-64EE9040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220D-5865-4149-9C36-78434C0C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629F2-DA07-4EEE-B339-91B701FD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29C90-2779-4E43-88BE-59CBD9C9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A6617-AE6D-4260-A078-E6E963BD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674D8-90B0-464F-87F1-8F9AEFD4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8FA-C989-4DD7-BB63-16A19D85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C4C84-47EB-41A2-A9AC-B4FCDB68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7A985-360F-4FA6-83ED-35A35CC8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13E89-0FCD-49DE-BD38-B4100C68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45D58-34BF-4CDF-8A80-D5F41C2A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C950A-19E2-4E42-B7AD-122E1985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F35B-F4AA-47C5-9507-103CF496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1418-22BF-4444-A437-D013CC8C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FB1C9-6958-4AC6-9FD1-0D8A28CC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675C2-B7A4-478C-8F44-410CE177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A29B2-E6BC-4DE2-A0B1-DEEE3B10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961-A453-44AD-815A-CD84D6B9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BC97E-D93C-46F4-BFB5-EB5BC7D8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289F4-A159-4EB0-B4BA-D946D47D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61D34-4D93-41A0-B600-98FAB1F6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53B85-1AD2-4979-8A52-A96B95CD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EAA0C-C8C8-444C-9A3B-6A0A49A8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C68A4-377E-4CB3-8989-459BEEE2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52559-D2D9-4D59-AB70-52BB1816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47F41-29A0-4E3C-B1A1-EB99CFC7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60AA8-BF88-4934-ABC7-DCE3744A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C7C04-FFB5-402F-9167-5DDFEACD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8665-9C52-4626-BBA9-FB2E9045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ECA40-CDCC-4623-8250-1C169804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E1F75-6519-4ECE-98ED-40D707A3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0EB35-8693-424D-8BE3-308F034E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8BDA7-2666-48BB-9FFA-1F16B2DB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A9B7C-039C-4026-A067-BF14BC1A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A496E-5D25-4104-A9B7-20FDA2D2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9C04C-9B93-4B1C-9B3D-D7FBA353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0A3BB-9EFF-4A19-BAB9-3E1B6573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18F5E-9F42-461D-BDF7-45272BA1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7998D-0943-4453-A14C-13D80B0E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B80-7FF0-403D-9A92-44A7B243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26471-6FAC-4B5A-A717-4ECDC5FB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A9144-1A1D-4B45-8F68-E80D5708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3C928-033E-4474-901E-B7EAF0FD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11F4A-2A42-4ACE-B2F0-4DEF77AD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AB7B2-BBD4-4212-8A68-AF4B0634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16C7C-78E5-4609-9573-3DBA7D1A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5389E-F2E9-4A32-A915-4BBB8D87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73646-87CE-441C-98B2-95EB6257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F118A-9DD5-4685-82DA-A877A3BF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FE3D8-CE6F-488E-A0CE-A1DB132F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93F-F917-41D5-943D-412E26A4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2D969-7FA0-4F9B-9E11-D84EF91E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D53ED-4832-42AF-8E99-75F6A41A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454B6-4EAA-4104-9D77-EAB2CEFE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3429D-06E7-483F-B3D8-D1F1C07D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8CB95-E94B-42FE-9B3E-2D6BE5CB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81F93-1FEC-43A6-8C2F-1AD2C4C4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0C3B2-8407-4635-8E4B-1DD87755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1065B-2947-4A7F-92C7-64310AD3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9E7AF-B7CA-45FD-9E92-9CDD6EC4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9FBCF-E282-465F-A8BE-FBFE7405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5DA-FFFA-4FB3-91ED-56A00DDE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4B245-7DC9-423A-8EF1-3300B893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3AA86-72C7-4BFF-BAEE-24A605B1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CC7B2-034D-4951-9922-4A564BF0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6A5C2-5045-4D71-8785-4EB60618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76CB6-C5E4-4B42-841D-81B1EA48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5B21D-9D9A-49D3-BBCF-870F0079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AE7E3-8FFF-433A-A333-4DC9C641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A409E-4620-4661-8BD4-4A4BE28F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D483D-07EC-48FE-BB66-47F1A709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7D1CC-4719-4C3D-81F7-F982D8EB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190-5C21-4F2D-AFEA-B07573B3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541A2-8034-4B17-9053-331CA9DB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8E2C5-3606-4EFA-BBFC-68530A03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380D2-DDDC-4F7D-B8F0-5592ED97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14E9F-3447-4214-8B2B-5336D42B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1ADA9-0369-45B1-B019-B6388AB8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C3980-771C-4E1E-B115-E7071A54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61B54-304A-41B0-B28E-38737129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345C3-B8C4-4C2C-A4E4-1DFF6359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955D2-BB38-4C79-BD92-FDA643CE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D3EC5-9760-4274-B7FB-F0F37BA4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79FF4-B82F-4FAF-9CFA-E20FBBBF04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DD787-9F59-47F8-B9ED-FFE933200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73762FCF-1B39-4F72-BB6D-714F3BCAF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78E18-C148-4301-A006-55AB34DD72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8AE22-F035-45F7-A021-AF81DF60A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7249A-8AC4-4625-9DED-6B14809BA1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94CC5-0A18-4F28-917E-E531E3E12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E4756-509B-4F55-AC42-A0C2C3699D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714A5-817F-4870-811F-F3FD2D026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EAC9D-0C4D-4B87-AC39-12B7887DC81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F71F0-B666-4920-9C9A-C105B2BE7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A858C-EA4B-43AB-86F1-ABD9389F19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8BA65-06E7-49D6-9A75-D565B8CF2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8710B-2C33-463E-89B2-F477AB8EC6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78848-6E7A-4867-A201-50099488D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26D86-FFBE-4B70-8CB7-47B4F8CC4C4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13979-070D-4B52-91FE-2951A91DF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85558-72BD-49D8-AD28-3AF9CAB9AC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FBAC0-70F9-4367-A6F5-B69D539E5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98E5A-05A1-4044-B46B-EF2B0EF2E73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83579-C9EE-410A-93E9-6249AB2A7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4A3B6-9CC0-4A97-B780-A7A197F119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DD265-7CBC-41BC-9DF0-43576ACCC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789A3-08A2-4FF1-B8A2-6018404670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A6CDC-A1D7-4D38-BF1C-0826F6F23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rioritní osa 1 – počáteční vzdělává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Oblast podpory 1.2 –Rovné příležitosti dětí a žáků se speciálními vzdělávacími potřebam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Arial Narrow"/>
              </a:rPr>
              <a:t>Výzva IPo č. 27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1800" spc="-1" strike="noStrike">
                <a:solidFill>
                  <a:srgbClr val="898989"/>
                </a:solidFill>
                <a:latin typeface="Arial Narrow"/>
              </a:rPr>
              <a:t>Seminář pro žad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1800" spc="-1" strike="noStrike">
                <a:solidFill>
                  <a:srgbClr val="898989"/>
                </a:solidFill>
                <a:latin typeface="Arial Narrow"/>
              </a:rPr>
              <a:t>2. února 201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FBEBD-CB7E-4465-82E3-E45ABD11F6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</a:t>
            </a:r>
            <a:r>
              <a:rPr b="1" lang="cs-CZ" sz="28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7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tvorbu inovovaných výukových programů zájmového a neformálního vzdělávání včetně pilotního ověření metod a forem zaměřených na prevenci rizikového chování dětí a mládeže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AEA7D-020A-4171-94DE-83E77ECECA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8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zpracování a implementace vzdělávacího modulu pro pedagogy volného času zaměřeného na oblast primární prevence rizikového chován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95347-792F-45D1-943B-921087D717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známk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i="1" lang="cs-CZ" sz="1800" spc="-1" strike="noStrike">
                <a:solidFill>
                  <a:srgbClr val="000000"/>
                </a:solidFill>
                <a:latin typeface="Arial Narrow"/>
              </a:rPr>
              <a:t>Součástí těchto projektů musí být </a:t>
            </a:r>
            <a:r>
              <a:rPr b="1" i="1" lang="cs-CZ" sz="1800" spc="-1" strike="noStrike">
                <a:solidFill>
                  <a:srgbClr val="000000"/>
                </a:solidFill>
                <a:latin typeface="Arial Narrow"/>
              </a:rPr>
              <a:t>klíčové aktivity </a:t>
            </a:r>
            <a:r>
              <a:rPr b="0" i="1" lang="cs-CZ" sz="1800" spc="-1" strike="noStrike">
                <a:solidFill>
                  <a:srgbClr val="000000"/>
                </a:solidFill>
                <a:latin typeface="Arial Narrow"/>
              </a:rPr>
              <a:t>zaměřené na </a:t>
            </a:r>
            <a:r>
              <a:rPr b="1" i="1" lang="cs-CZ" sz="1800" spc="-1" strike="noStrike">
                <a:solidFill>
                  <a:srgbClr val="000000"/>
                </a:solidFill>
                <a:latin typeface="Arial Narrow"/>
              </a:rPr>
              <a:t>přímou práci s dětmi a žáky  včetně dětí a žáků se speciálními vzdělávacími  potřebami,</a:t>
            </a:r>
            <a:r>
              <a:rPr b="0" i="1" lang="cs-CZ" sz="1800" spc="-1" strike="noStrike">
                <a:solidFill>
                  <a:srgbClr val="000000"/>
                </a:solidFill>
                <a:latin typeface="Arial Narrow"/>
              </a:rPr>
              <a:t> na praktické ověřování a evaluaci vzniklých metodik, vzdělávacích programů a forem výuky, které budou realizovat     proškolení pedagogičtí pracovníci nebo pracovníci organizací působících v oblasti  vzdělávání nebo asistenčních služeb a v oblasti volného času dětí a mládež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9264C-EF5C-46CA-BF41-3EC0F15B0B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rovaná aktivita č. 2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odpora neformálního vzdělávání a kompetencí v něm získaných, zdokonalování systému vzdělávání pracovníků NNO a středisek volného času, vytváření vzdělávacích modulů uznatelných jako součást dalšího vzdělávání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B6244-22FE-4067-87D5-7981FF1033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2.1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inovace vzdělávacích programů ve školských zařízeních pro všechny formy zájmového vzdělávání, tvorba metodik a učebních pomůcek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273F5-F308-4B0C-89E4-8029970CF0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2.2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zpracování nástrojů ověřujících kvalitu činnosti školských zařízení pro zájmové vzdělávání a nestátních neziskových organizací působících v oblasti neformálního vzdělávání dětí a mládež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90676-1727-4C15-8958-D5842C2FBF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známk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cs-CZ" sz="2000" spc="-1" strike="noStrike">
                <a:solidFill>
                  <a:srgbClr val="000000"/>
                </a:solidFill>
                <a:latin typeface="Arial Narrow"/>
              </a:rPr>
              <a:t>Součástí těchto projektů musí být </a:t>
            </a:r>
            <a:r>
              <a:rPr b="1" i="1" lang="cs-CZ" sz="2000" spc="-1" strike="noStrike">
                <a:solidFill>
                  <a:srgbClr val="000000"/>
                </a:solidFill>
                <a:latin typeface="Arial Narrow"/>
              </a:rPr>
              <a:t>klíčové aktivity zaměřené na přímou práci s dětmi a žáky se speciálními vzdělávacími potřebami, </a:t>
            </a:r>
            <a:r>
              <a:rPr b="0" i="1" lang="cs-CZ" sz="2000" spc="-1" strike="noStrike">
                <a:solidFill>
                  <a:srgbClr val="000000"/>
                </a:solidFill>
                <a:latin typeface="Arial Narrow"/>
              </a:rPr>
              <a:t>na praktické ověřování a evaluaci vzniklých metodik, vzdělávacích programů a forem výuky, které budou realizovat proškolení pedagogičtí pracovníci nebo pracovníci organizací působících v oblasti vzdělávání nebo asistenčních služeb a v oblasti volného času dětí a mládeže</a:t>
            </a:r>
            <a:r>
              <a:rPr b="0" i="1" lang="cs-CZ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CE414-168E-44D2-91B8-50A7FDF7B0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Cílové skupiny pro podporované aktivity č. 1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děti a mládež, pokud jsou aktivity realizovaného projektu zaměřeny na prevenci sociálně patologických jevů a na vytváření inkluzívního prostředí ve škole, školském zařízení pro zájmové vzdělávání, základním článku organizací působících v oblasti volného času a zájmového vzdělávání dětí a mládeže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rodiče dětí a žáků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acovníci škol a školských zařízení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acovníci a dobrovolní pracovníci organizací působících v oblasti vzdělávání nebo asistenčních služeb a v oblasti volného času a zájmového vzdělávání dětí a mládež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AFC8D-E43C-4404-B665-017FBD7B28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známka  k cílovým skupinám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Definice cílových skupin „dobrovolníci“ a „dětí a žáků“ sociokulturním znevýhodněním je podrobně uvedena v platné verzi Prováděcího dokumentu, v příloze č. 4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D061E-0C53-4061-8587-13E2222D34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  <a:ea typeface="Arial CE"/>
              </a:rPr>
              <a:t>Cílové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skupiny pro podporované aktivity č. 2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edoucí pracovníci škol a školských zařízení;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acovníci organizací působících v oblasti vzdělávání nebo asistenčních služeb a v oblasti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volného času dětí a mládeže;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acovníci a dobrovolní pracovníci organizací působících v oblasti vzdělávání nebo asistenčních služeb a v oblasti volného času a zájmového vzdělávání dětí a mládeže;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děti a žáci se speciálními vzdělávacími potřebami od 3 let (např. z mateřských škol a přípravných tříd základních škol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89E18-DBEA-48D1-AD75-AD8987AD89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ezentace aktivit č. 1 a 2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hDr. Marcela Svěrák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6D3F1-A150-46F1-BC1C-468CD6646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Oprávnění žadatelé p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ro podporované aktivity 1 a 2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školy a školská zařízení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(tj. právnická osoba vykonávající činnost školy a školského  zařízení zapsaná ve školském rejstříku);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 Narrow"/>
              </a:rPr>
              <a:t>nestátní neziskové organizace 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(založené nebo zřízené podle zákona č. 83/1990 Sb., o sdružování občanů ve znění pozdějších předpisů, zákona č. 248/1995 Sb., o obecně prospěšných společnostech a o změně a doplnění některých zákonů ve znění pozdějších atd. (viz výzva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A2878-4EE5-4E38-8E97-0A0694D0F0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ezentace aktivity č. 3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etr Nečin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BE2D9-1595-496B-99C5-E50C9C66F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rovaná aktivita č. 3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Uplatňování a zlepšování organizačních forem výuky a vyučovacích metod podporujících rovný přístup ke vzdělávání, včetně tvorby individuálních vzdělávacích plánů, využití ICT a e-learningových aplikací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C430B-547F-4C06-8C6A-FC8407DAF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 bude projekt zaměřený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znik místních strategických plánů vzdělávání zaměřených na začleňování dětí a žáků se SVP. Strategické plány budou obsahovat opatření, která budou pilotně ověřena. Plány musí být v souladu se strategiemi pro sociální začleňování. Doporučujeme při vzniku a implementaci plánů spolupracovat s Agenturou pro sociální začleňování při Úřadu vlády ČR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o realizaci této aktivity bude vybrán jediný projekt, který získá v rámci hodnocení nejvyšší počet bodů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81756-CA2D-4DA1-8526-79DE59238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00160" y="1164960"/>
            <a:ext cx="718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  <a:ea typeface="Arial CE"/>
              </a:rPr>
              <a:t>Cílové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skupiny pro podporované aktivity č. 3/1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100160" y="2634840"/>
            <a:ext cx="6400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ěti se speciálními vzdělávacími potřebami z mateřských škol a přípravných tříd základních škol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ěti a mladiství (do 18 let), kteří předčasně opustili systém počátečního vzdělávání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žáci základních a středních škol se speciálními vzdělávacími potřebami a ti žáci, kteří jsou ohroženi předčasným odchodem ze vzdělávání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B6198-1A56-4CB1-A6B2-677AD3F62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  <a:ea typeface="Arial CE"/>
              </a:rPr>
              <a:t>Cílové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skupiny pro podporované aktivity č. 3/2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děti a žáci, pokud jsou aktivity realizovaného projektu zaměřeny na vytváření inkluzívního prostředí ve škole a třídě nebo na prevenci sociálně patologických jevů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rodiče dětí a žáků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acovníci škol a školských zařízení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edoucí pracovníci škol a školských zařízení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acovníci organizací působících v oblasti vzdělávání nebo asistenčních služeb a v oblasti volného času dětí a mládeže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3C7B6-50E6-439A-9990-2B6F1418C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Oprávnění žadatelé p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ro podporovan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ou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 aktivit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u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vysoké školy podle zákona č. 111/1998 Sb. o vysokých školách a o změně a doplnění dalších zákonů (zákon o vysokých školách), ve znění pozdějších předpisů;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nestátní neziskové organizace (založené nebo zřízené podle zákona č. 83/1990 Sb., o sdružování občanů ve znění pozdějších předpisů, zákona č. 248/1995 Sb., o obecně prospěšných společnostech a o změně a doplnění některých zákonů ve znění pozdějších předpisů atd. (viz výzva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18424-024F-47E5-9312-C8F05349E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Helvetica CE"/>
              </a:rPr>
              <a:t>Podporovaná aktivita č. 1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 Narrow"/>
              </a:rPr>
              <a:t>Prevence sociálně-patologických jevů (záškoláctví, kriminalita, násilí,užívání návykových látek, HIV/AIDS…) prostřednictvím programů, které směrují k rozvoji osobnosti dítěte a žáka přes zvyšování klíčových kompetencí a vedou ke zlepšení sociálního klimatu ve skupině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FC7EA-9F25-4C5E-A0E0-586245A4AC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aktivity podporující zdravý životní styl a osvojení si pozitivního sociálního chování prostřednictvím smysluplného využívání volného času, aktivity směřující ke zdravému rozvoji osobnosti, k odpovědnosti za sebe sama a za své jednání a k dodržování základních společenských pravidel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419EC-925A-44B1-903D-92CCFB10F4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2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ojekty zaměřené na vytváření vhodných podmínek ve školských zařízeních pro zájmové vzdělávání a NNO pracujících s dětmi a mládeží pro širší inkluzi dětí a mládeže se speciálními vzdělávacími potřebami z pohledu znevýhodnění sociálního nebo zdravotního do oblasti zájmového a neformálního vzdělá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9784C-2C47-4723-A493-749E5883BA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3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ojekty zaměřené na posílení spolupráce škol, školských zařízení pro zájmové vzdělávání a NNO pracujících s dětmi a mládeží při zřizování „otevřených klubů pro děti a mládež“, v jejichž programech se realizují aktivity směřující k prevenci rizikového chování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A15C2-3499-4629-960D-BAF8A9DDED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</a:t>
            </a:r>
            <a:r>
              <a:rPr b="1" lang="cs-CZ" sz="28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4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říprava a pilotáž vzdělávacích programů pro děti a mládež zaměřených na rozvoj metod a forem v oblasti zájmového a neformálního vzdělávání, který směřuje k primární prevenci rizikového chování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C72C8-64AD-4780-AA9B-780543A83D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vytváření a implementace programů zaměřených na rozvoj metod osobnostní a sociální výchovy směřující k primární prevenci rizikového chování: adaptační a zážitkové programy, týmová spolupráce, řešení konfliktů, komunikace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0F21B-EC1E-4B0C-A6B7-8B88697203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Podpořeny budou projekty zaměřená na: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 Narrow"/>
              </a:rPr>
              <a:t>1.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Narrow"/>
              </a:rPr>
              <a:t>projekty zaměřené na oblast: finanční gramotnosti dětí a mládeže, právního vědomí, na ochranu před zneužitím osobnostních profilů na internetových sítích;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6BCC1-566B-4A05-8088-2EB0A8019F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31T14:11:44Z</dcterms:modified>
  <cp:revision>40</cp:revision>
  <dc:subject/>
  <dc:title>Titulní strana – Titulek</dc:title>
</cp:coreProperties>
</file>